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AFE8-411B-4482-8647-D6F7E2B5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23DE-6B11-45B1-B433-4F9D045E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FE30-6642-4CF0-99D1-91B35606E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7F70-45CC-441C-89DE-8111D7167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E9C7-C684-4B11-B005-F3F0D563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3E3-8B24-401D-A328-2F1550BD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2966-44F4-40CC-8440-18D356F1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E34A-8068-40E4-B330-07012D86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8EE-EEC2-47D5-9975-F5ABF69A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8937-9EED-4077-9DB6-21E56656B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A71D-80A3-4550-B621-6A654B06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410-D844-4192-8176-77E47B2C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7277-D36B-4E13-BDA4-4A39CFC6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-3214800"/>
            <a:ext cx="3049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200400" y="377964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00600" y="152280"/>
            <a:ext cx="2895480" cy="21081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3965400" cy="3444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19920" y="2819520"/>
            <a:ext cx="2928960" cy="2977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0" y="228600"/>
            <a:ext cx="277164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048120" y="1371600"/>
            <a:ext cx="3143160" cy="229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809880" y="3657600"/>
            <a:ext cx="291492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reate A Problem/Solution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unted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/Bad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i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4T15:09:21Z</dcterms:created>
  <dc:creator>Cumberland County Schools</dc:creator>
  <dc:description/>
  <dc:language>en-US</dc:language>
  <cp:lastModifiedBy>Cumberland County Schools</cp:lastModifiedBy>
  <dcterms:modified xsi:type="dcterms:W3CDTF">2011-10-24T17:31:35Z</dcterms:modified>
  <cp:revision>2</cp:revision>
  <dc:subject/>
  <dc:title>Slide 1</dc:title>
</cp:coreProperties>
</file>